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9ED4-FCA2-468C-8B79-34EF4023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BE8E-DADA-4FE6-A77E-71BA6B6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AB48-D6BF-418B-9D4E-7D371C2E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3A86-80AC-448E-8092-CB58F7D5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D33-E7DA-4002-8991-48AF30CE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70D-74F4-4D61-AA08-FED648B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D5C-B921-47DD-BE1B-ABF2823E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7CF5-B88A-4416-BC6F-42AA524B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9102-23CB-4F6B-BC58-7800CA55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3B9D-1F39-4C8C-87BD-AE62D63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098E-E07C-4032-B654-D6CE976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3232-FFFE-446F-B2EC-279D2D7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498-B97B-4FE6-BE3E-5FE470C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E864-282E-4347-AF2A-22FEC72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6CA-6563-45FD-ABFF-0B80B6E9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C58-1EBD-4CA7-8E03-B727D214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CD3C-CD05-4081-9295-2B26163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AB7E-55FB-45F5-ADC0-998627F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AE7E-70A9-4506-BD6E-57AEE12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84DE-5289-4F05-A8C7-F19F4A7F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59F8-2F4F-4173-870F-CAD9BA2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07CF-467F-4C79-A2C1-28C643B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984A-6DBC-4D07-8872-77D93B4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F85D-2EF8-4DFB-93FA-6A00BCF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0377-0BF6-428F-A0BC-3B99BF880A4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FCF3-CFAA-476B-B825-8CE837CAD20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044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0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е има душата родина и мир? Кой ще я закриля от светски кумир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ободно място не й дава светът, къде да я не изкушава грехъ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, не, не, не! Тук то не е -родината нейна е горе в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4886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Дали щом остави душата светът, ще види тя свойта родина отвъд? Ерусалим новий горе в небеса дали е родина на мойта душ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да, да, да! Това е т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дава навеки нам мир 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24000" y="1021680"/>
            <a:ext cx="972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Исуса какъв чудесен пок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ях и смърт там няма - ще ги махне То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песен на арфи, тоз небесен гл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ата ми кани все към рай, при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 мир, мир, мир, божествен м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ремя се аз тука към тебе безсп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5-26T15:58:37Z</dcterms:modified>
  <cp:revision>71</cp:revision>
  <dc:subject/>
  <dc:title>Slide 1</dc:title>
</cp:coreProperties>
</file>